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E84-F738-4A0A-BC73-80A7BEAC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D70-6D63-4DAF-9FD2-3290EA7A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4D6-7BE5-4F26-8899-BB19AC5E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C91-73EA-40BC-8571-B180A6AA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C01-BFE1-4720-BC5B-3E0B8568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C35-3DE3-4807-B37B-C734B5E2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5E2-7EBD-44FB-AF2E-C44836A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FACE-F9A7-4B0C-84A0-94D63B70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EE32-D75F-4DEC-A7B1-41AE4D14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2460-70BB-473A-B4DD-CA3AB86B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CB19-723D-4C47-AF41-CE9A8450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DBB-3DD2-46A4-B511-981180C4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2992-E62F-4ABB-81EF-B3D665B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C27A-4D40-4118-84FA-FAF1ECA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4D2A-0D28-4B44-8FB8-99BEDE9C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A548-DF26-491F-BA5E-B2C4C966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A135-96A9-4A4A-B1D7-8DF47748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3B1-702E-4DF4-808D-D296643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64C-EF4C-4484-A6AA-CCE9919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759-D285-49F9-B1B3-81DB2F26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329-C823-43C0-96D1-F69D1B53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418-1302-4802-AD37-D94CF610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92A-1A0C-4659-B79C-89C46F7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8C3-9F11-44A6-8649-CA1CAFE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1687-A9A7-4CDF-B1F3-765A8DDE5A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BCA-F12D-46D1-919C-CAB26DB018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worldwarii/a/hiroshima.htm" TargetMode="External"/><Relationship Id="rId2" Type="http://schemas.openxmlformats.org/officeDocument/2006/relationships/hyperlink" Target="http://en.wikipedia.org/wiki/World_War_II" TargetMode="External"/><Relationship Id="rId3" Type="http://schemas.openxmlformats.org/officeDocument/2006/relationships/hyperlink" Target="http://en.wikipedia.org/wiki/History_of_Germany_during_World_War_II" TargetMode="External"/><Relationship Id="rId4" Type="http://schemas.openxmlformats.org/officeDocument/2006/relationships/hyperlink" Target="http://en.wikipedia.org/wiki/Nazi_Germany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en.wikipedia.org/wiki/F&#252;hrer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orld War I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ra Peter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history1900s.about.com/od/worldwarii/a/hiroshima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en.wikipedia.org/wiki/World_War_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en.wikipedia.org/wiki/History_of_Germany_during_World_War_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en.wikipedia.org/wiki/Nazi_German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en.wikipedia.org/wiki/World_War_II_casual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iki.answers.com/Q/How_many_people_died_in_World_War_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en.wikipedia.org/wiki/List_of_World_War_II_casualties_by_count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secondworldwar.co.uk/casualty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en.wikipedia.org/wiki/United_States#World_War_I.2C_Great_Depression.2C_and_World_War_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orld War II (WWII) started on September 1, 1939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e war officially started when Germany invaded Polan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fter Germany invaded, Great Britain and France declared war with Germany because of a treaty with Franc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2057400" cy="163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1527120" cy="1676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581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WWII, there were the ‘Axis’ and the Allies.’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x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pan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aly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ng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ma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lga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viet Un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.S.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rita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ran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w Zeal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uth Afric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ugoslav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rwa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therland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elgiu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ee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1500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*- Donates the three “Axis Powers.”  They were the main problem for the Al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10280" y="1600200"/>
            <a:ext cx="1752840" cy="108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1752840" cy="131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66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010280" y="2819520"/>
            <a:ext cx="17528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.S. Involv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anklin D. Roosevelt was the president during the first part of WWI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rry Truman became president in the final year of the war.  He ordered the bomb to be dropped on Jap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ring Germany’s invasion of Poland and other surrounding countries, the U.S. was still neutral about the w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.S. was reluctant to enter the war because they didn’t want to waste lives, money, and resources on w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.S. didn’t enter the war until Japan bombed Pearl Harbor in 194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.S. was the only country to become richer from the war instead of poor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17892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1446120" cy="1805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191120" y="4648320"/>
            <a:ext cx="2590560" cy="1939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981080" y="4876920"/>
            <a:ext cx="19051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rma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1152360" cy="1524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olf Hitler became Chancellor of Germany on January 30, 193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tler was idolized a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Führ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(Leader) by the Nazi stat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was president from 1934-194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uring the war, Germany had conquered most of Northern Africa and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 was defeated on May 8, 194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05320" y="5410080"/>
            <a:ext cx="20574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eader of Japan during WWII was Emperor Hirohi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entered WWII when Japan bombed Pearl Harbor on September 4, 194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pan gained control of many islands including: the Philippines, the Dutch East Indies, Burma and Malay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bombed Japan, and after the second Atom bomb, Japan surrende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486400" y="5257800"/>
            <a:ext cx="2209680" cy="1425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352680" y="5257800"/>
            <a:ext cx="1657440" cy="1419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43000" y="5257800"/>
            <a:ext cx="1800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om Bom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Atomic (Nuclear) Bomb was first used in WWII against Japan by the U.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re were two Atom bombs dropped in Japan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first was dropped on Hiroshima at 2:45 a.m. on August 6, 1945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first bomb was carried on Enola Gay (a B-29) aircraft bomber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second bomb was dropped on Nagasaki at 11:02 am on August 9, 1945, only 3 days after the first bomb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nother B-29, named Bock’s Car, was used to drop the second bomb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315200" y="4648320"/>
            <a:ext cx="1441440" cy="1904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952880" y="4952880"/>
            <a:ext cx="198144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666880" y="495288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21333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usa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here are many estimates, but the total causalities is about 50-80 millio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bout 61 million on the Allies side, and 11 million on the Axis sid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Civilian causalities vary from 40-52 million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here were about 22-25 million military death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66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8672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the war, Germany lost a fourth of its pre-war territories to Pola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try and maintain peace, the Allies formed the United Nations on October 24, 194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d of WWII was the beginning of the Cold War between the U.S. and the Soviet Un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2:06:16Z</dcterms:created>
  <dc:creator>Craig and Kim Peterson</dc:creator>
  <dc:description/>
  <dc:language>en-US</dc:language>
  <cp:lastModifiedBy>Craig and Kim Peterson</cp:lastModifiedBy>
  <dcterms:modified xsi:type="dcterms:W3CDTF">2011-04-19T00:24:17Z</dcterms:modified>
  <cp:revision>3</cp:revision>
  <dc:subject/>
  <dc:title>Atomic Bomb</dc:title>
</cp:coreProperties>
</file>